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4C6-68F7-43F9-A0A4-6FAD7FEB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763-E68F-4DAD-BAC1-42B97896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49C-86F5-4B50-89D3-3A436A18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BA4-C9F3-463F-A9D1-066D9F77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B67-931C-44E6-88D0-CFDF2B6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B76-2A07-401D-BA89-A425BA9F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E64-CBF1-4D9F-AAF8-84BA733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DFA-81CA-4C1A-A807-3E5ED919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9EE-51A1-4B38-85F3-2655C5B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D30-1F53-40BB-BF00-F513CE9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FE0-6EF0-423A-AA15-03EE9C6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A48-57F1-4C99-BE2D-6424D7D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1C67-6075-4F39-AACB-BF0BEB350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Епилептички напади и епилепс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400" spc="-1" strike="noStrike">
                <a:solidFill>
                  <a:srgbClr val="000000"/>
                </a:solidFill>
                <a:latin typeface="Calibri"/>
              </a:rPr>
              <a:t>Генерализовани 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ип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an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оклонички 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ичко-кл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о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858080" y="214200"/>
            <a:ext cx="83808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уд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дат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72400" y="0"/>
            <a:ext cx="137160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6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кључ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птим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Хирур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ста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1371600"/>
            <a:ext cx="29718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24520" y="8794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Моно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38520" y="2708280"/>
            <a:ext cx="25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781600" y="45370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190512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39625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1028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00040" y="1371600"/>
            <a:ext cx="1500120" cy="14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071800" y="1357200"/>
            <a:ext cx="1538280" cy="14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1371600" y="28195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4343400" y="4648320"/>
            <a:ext cx="762120" cy="1295280"/>
          </a:xfrm>
          <a:custGeom>
            <a:avLst/>
            <a:gdLst>
              <a:gd name="textAreaLeft" fmla="*/ 101880 w 762120"/>
              <a:gd name="textAreaRight" fmla="*/ 660240 w 7621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2590920" y="3200400"/>
            <a:ext cx="1409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946680" y="318600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951640" y="3733920"/>
            <a:ext cx="6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267080" y="3733920"/>
            <a:ext cx="7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5715000" y="5029200"/>
            <a:ext cx="1285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Доб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7162920" y="5029200"/>
            <a:ext cx="140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Слаб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1600" spc="-1" strike="noStrike">
                <a:solidFill>
                  <a:srgbClr val="000000"/>
                </a:solidFill>
                <a:latin typeface="Arial"/>
              </a:rPr>
              <a:t>контр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831280" y="5653080"/>
            <a:ext cx="2518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2643120" y="214200"/>
            <a:ext cx="60721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Arial"/>
              </a:rPr>
              <a:t>А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А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ДЕЈСТВ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НТИЕПИЛЕПТИ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89"/>
          <p:cNvGrpSpPr/>
          <p:nvPr/>
        </p:nvGrpSpPr>
        <p:grpSpPr>
          <a:xfrm>
            <a:off x="152280" y="1905120"/>
            <a:ext cx="8915400" cy="4647240"/>
            <a:chOff x="152280" y="1905120"/>
            <a:chExt cx="8915400" cy="4647240"/>
          </a:xfrm>
        </p:grpSpPr>
        <p:sp>
          <p:nvSpPr>
            <p:cNvPr id="129" name="Rectangle 4"/>
            <p:cNvSpPr/>
            <p:nvPr/>
          </p:nvSpPr>
          <p:spPr>
            <a:xfrm>
              <a:off x="157320" y="194328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6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64"/>
            <p:cNvSpPr/>
            <p:nvPr/>
          </p:nvSpPr>
          <p:spPr>
            <a:xfrm>
              <a:off x="157320" y="197784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1600200" y="1905120"/>
              <a:ext cx="8031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6"/>
            <p:cNvSpPr/>
            <p:nvPr/>
          </p:nvSpPr>
          <p:spPr>
            <a:xfrm>
              <a:off x="152388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2209680" y="1905120"/>
              <a:ext cx="1009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8"/>
            <p:cNvSpPr/>
            <p:nvPr/>
          </p:nvSpPr>
          <p:spPr>
            <a:xfrm>
              <a:off x="220824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28954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70"/>
            <p:cNvSpPr/>
            <p:nvPr/>
          </p:nvSpPr>
          <p:spPr>
            <a:xfrm>
              <a:off x="2879640" y="199224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3581280" y="1905120"/>
              <a:ext cx="10288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2"/>
            <p:cNvSpPr/>
            <p:nvPr/>
          </p:nvSpPr>
          <p:spPr>
            <a:xfrm>
              <a:off x="3564000" y="199224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4267080" y="1905120"/>
              <a:ext cx="1032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B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74"/>
            <p:cNvSpPr/>
            <p:nvPr/>
          </p:nvSpPr>
          <p:spPr>
            <a:xfrm>
              <a:off x="4245120" y="199224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49528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6"/>
            <p:cNvSpPr/>
            <p:nvPr/>
          </p:nvSpPr>
          <p:spPr>
            <a:xfrm>
              <a:off x="4927680" y="199224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638680" y="1905120"/>
              <a:ext cx="1063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8"/>
            <p:cNvSpPr/>
            <p:nvPr/>
          </p:nvSpPr>
          <p:spPr>
            <a:xfrm>
              <a:off x="5629320" y="199224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324480" y="1905120"/>
              <a:ext cx="1006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0"/>
            <p:cNvSpPr/>
            <p:nvPr/>
          </p:nvSpPr>
          <p:spPr>
            <a:xfrm>
              <a:off x="6329520" y="199224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>
              <a:off x="7010280" y="1905120"/>
              <a:ext cx="10699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2"/>
            <p:cNvSpPr/>
            <p:nvPr/>
          </p:nvSpPr>
          <p:spPr>
            <a:xfrm>
              <a:off x="6999120" y="199224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4"/>
            <p:cNvSpPr/>
            <p:nvPr/>
          </p:nvSpPr>
          <p:spPr>
            <a:xfrm>
              <a:off x="7696080" y="1905120"/>
              <a:ext cx="1044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84"/>
            <p:cNvSpPr/>
            <p:nvPr/>
          </p:nvSpPr>
          <p:spPr>
            <a:xfrm>
              <a:off x="7701120" y="199224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8381880" y="1905120"/>
              <a:ext cx="6858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6"/>
            <p:cNvSpPr/>
            <p:nvPr/>
          </p:nvSpPr>
          <p:spPr>
            <a:xfrm>
              <a:off x="8391600" y="199224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157320" y="2745720"/>
              <a:ext cx="13334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GA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recepto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8"/>
            <p:cNvSpPr/>
            <p:nvPr/>
          </p:nvSpPr>
          <p:spPr>
            <a:xfrm>
              <a:off x="157320" y="2745720"/>
              <a:ext cx="1366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1565280" y="2745720"/>
              <a:ext cx="720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0"/>
            <p:cNvSpPr/>
            <p:nvPr/>
          </p:nvSpPr>
          <p:spPr>
            <a:xfrm>
              <a:off x="152388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2284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2"/>
            <p:cNvSpPr/>
            <p:nvPr/>
          </p:nvSpPr>
          <p:spPr>
            <a:xfrm>
              <a:off x="220824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2955960" y="2745720"/>
              <a:ext cx="531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4"/>
            <p:cNvSpPr/>
            <p:nvPr/>
          </p:nvSpPr>
          <p:spPr>
            <a:xfrm>
              <a:off x="2879640" y="2745720"/>
              <a:ext cx="6843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3639960" y="2745720"/>
              <a:ext cx="52884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6"/>
            <p:cNvSpPr/>
            <p:nvPr/>
          </p:nvSpPr>
          <p:spPr>
            <a:xfrm>
              <a:off x="3564000" y="2745720"/>
              <a:ext cx="68112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143240" y="2745720"/>
              <a:ext cx="8859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8"/>
            <p:cNvSpPr/>
            <p:nvPr/>
          </p:nvSpPr>
          <p:spPr>
            <a:xfrm>
              <a:off x="4245120" y="2745720"/>
              <a:ext cx="68256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4842000" y="2745720"/>
              <a:ext cx="8730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0"/>
            <p:cNvSpPr/>
            <p:nvPr/>
          </p:nvSpPr>
          <p:spPr>
            <a:xfrm>
              <a:off x="4927680" y="2745720"/>
              <a:ext cx="70164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5556240" y="2745720"/>
              <a:ext cx="844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2"/>
            <p:cNvSpPr/>
            <p:nvPr/>
          </p:nvSpPr>
          <p:spPr>
            <a:xfrm>
              <a:off x="5629320" y="2745720"/>
              <a:ext cx="7002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6405480" y="2745720"/>
              <a:ext cx="5176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04"/>
            <p:cNvSpPr/>
            <p:nvPr/>
          </p:nvSpPr>
          <p:spPr>
            <a:xfrm>
              <a:off x="6329520" y="2745720"/>
              <a:ext cx="6696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7075440" y="2745720"/>
              <a:ext cx="5493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6"/>
            <p:cNvSpPr/>
            <p:nvPr/>
          </p:nvSpPr>
          <p:spPr>
            <a:xfrm>
              <a:off x="6999120" y="2745720"/>
              <a:ext cx="7020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6"/>
            <p:cNvSpPr/>
            <p:nvPr/>
          </p:nvSpPr>
          <p:spPr>
            <a:xfrm>
              <a:off x="7632720" y="2745720"/>
              <a:ext cx="8254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8"/>
            <p:cNvSpPr/>
            <p:nvPr/>
          </p:nvSpPr>
          <p:spPr>
            <a:xfrm>
              <a:off x="7701120" y="2745720"/>
              <a:ext cx="69048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8467560" y="2745720"/>
              <a:ext cx="5191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0"/>
            <p:cNvSpPr/>
            <p:nvPr/>
          </p:nvSpPr>
          <p:spPr>
            <a:xfrm>
              <a:off x="8391600" y="2745720"/>
              <a:ext cx="671400" cy="10112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57320" y="3757320"/>
              <a:ext cx="14428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Ekscitator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aminokise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2"/>
            <p:cNvSpPr/>
            <p:nvPr/>
          </p:nvSpPr>
          <p:spPr>
            <a:xfrm>
              <a:off x="157320" y="3757320"/>
              <a:ext cx="1366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1565280" y="3757320"/>
              <a:ext cx="720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4"/>
            <p:cNvSpPr/>
            <p:nvPr/>
          </p:nvSpPr>
          <p:spPr>
            <a:xfrm>
              <a:off x="152388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0"/>
            <p:cNvSpPr/>
            <p:nvPr/>
          </p:nvSpPr>
          <p:spPr>
            <a:xfrm>
              <a:off x="2284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6"/>
            <p:cNvSpPr/>
            <p:nvPr/>
          </p:nvSpPr>
          <p:spPr>
            <a:xfrm>
              <a:off x="220824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955960" y="3757320"/>
              <a:ext cx="5317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18"/>
            <p:cNvSpPr/>
            <p:nvPr/>
          </p:nvSpPr>
          <p:spPr>
            <a:xfrm>
              <a:off x="2879640" y="3757320"/>
              <a:ext cx="6843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2"/>
            <p:cNvSpPr/>
            <p:nvPr/>
          </p:nvSpPr>
          <p:spPr>
            <a:xfrm>
              <a:off x="3639960" y="3757320"/>
              <a:ext cx="52884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0"/>
            <p:cNvSpPr/>
            <p:nvPr/>
          </p:nvSpPr>
          <p:spPr>
            <a:xfrm>
              <a:off x="3564000" y="3757320"/>
              <a:ext cx="68112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4143240" y="3757320"/>
              <a:ext cx="8859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22"/>
            <p:cNvSpPr/>
            <p:nvPr/>
          </p:nvSpPr>
          <p:spPr>
            <a:xfrm>
              <a:off x="4245120" y="3757320"/>
              <a:ext cx="68256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4842000" y="3757320"/>
              <a:ext cx="87300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24"/>
            <p:cNvSpPr/>
            <p:nvPr/>
          </p:nvSpPr>
          <p:spPr>
            <a:xfrm>
              <a:off x="4927680" y="3757320"/>
              <a:ext cx="70164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35"/>
            <p:cNvSpPr/>
            <p:nvPr/>
          </p:nvSpPr>
          <p:spPr>
            <a:xfrm>
              <a:off x="5556240" y="3757320"/>
              <a:ext cx="8445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6"/>
            <p:cNvSpPr/>
            <p:nvPr/>
          </p:nvSpPr>
          <p:spPr>
            <a:xfrm>
              <a:off x="5629320" y="3757320"/>
              <a:ext cx="7002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6405480" y="3757320"/>
              <a:ext cx="5176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8"/>
            <p:cNvSpPr/>
            <p:nvPr/>
          </p:nvSpPr>
          <p:spPr>
            <a:xfrm>
              <a:off x="6329520" y="3757320"/>
              <a:ext cx="6696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7075440" y="3757320"/>
              <a:ext cx="54936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0"/>
            <p:cNvSpPr/>
            <p:nvPr/>
          </p:nvSpPr>
          <p:spPr>
            <a:xfrm>
              <a:off x="6999120" y="3757320"/>
              <a:ext cx="7020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8"/>
            <p:cNvSpPr/>
            <p:nvPr/>
          </p:nvSpPr>
          <p:spPr>
            <a:xfrm>
              <a:off x="7632720" y="3757320"/>
              <a:ext cx="82548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2"/>
            <p:cNvSpPr/>
            <p:nvPr/>
          </p:nvSpPr>
          <p:spPr>
            <a:xfrm>
              <a:off x="7701120" y="3757320"/>
              <a:ext cx="69048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9"/>
            <p:cNvSpPr/>
            <p:nvPr/>
          </p:nvSpPr>
          <p:spPr>
            <a:xfrm>
              <a:off x="8467560" y="3757320"/>
              <a:ext cx="519120" cy="12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34"/>
            <p:cNvSpPr/>
            <p:nvPr/>
          </p:nvSpPr>
          <p:spPr>
            <a:xfrm>
              <a:off x="8391600" y="3757320"/>
              <a:ext cx="671400" cy="12546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57320" y="501192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36"/>
            <p:cNvSpPr/>
            <p:nvPr/>
          </p:nvSpPr>
          <p:spPr>
            <a:xfrm>
              <a:off x="157320" y="501192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1"/>
            <p:cNvSpPr/>
            <p:nvPr/>
          </p:nvSpPr>
          <p:spPr>
            <a:xfrm>
              <a:off x="1565280" y="484308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38"/>
            <p:cNvSpPr/>
            <p:nvPr/>
          </p:nvSpPr>
          <p:spPr>
            <a:xfrm>
              <a:off x="152388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2284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40"/>
            <p:cNvSpPr/>
            <p:nvPr/>
          </p:nvSpPr>
          <p:spPr>
            <a:xfrm>
              <a:off x="220824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2955960" y="484308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2"/>
            <p:cNvSpPr/>
            <p:nvPr/>
          </p:nvSpPr>
          <p:spPr>
            <a:xfrm>
              <a:off x="2879640" y="501192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4"/>
            <p:cNvSpPr/>
            <p:nvPr/>
          </p:nvSpPr>
          <p:spPr>
            <a:xfrm>
              <a:off x="3639960" y="484308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44"/>
            <p:cNvSpPr/>
            <p:nvPr/>
          </p:nvSpPr>
          <p:spPr>
            <a:xfrm>
              <a:off x="3564000" y="501192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5"/>
            <p:cNvSpPr/>
            <p:nvPr/>
          </p:nvSpPr>
          <p:spPr>
            <a:xfrm>
              <a:off x="4143240" y="484308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46"/>
            <p:cNvSpPr/>
            <p:nvPr/>
          </p:nvSpPr>
          <p:spPr>
            <a:xfrm>
              <a:off x="4245120" y="501192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6"/>
            <p:cNvSpPr/>
            <p:nvPr/>
          </p:nvSpPr>
          <p:spPr>
            <a:xfrm>
              <a:off x="4842000" y="484308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48"/>
            <p:cNvSpPr/>
            <p:nvPr/>
          </p:nvSpPr>
          <p:spPr>
            <a:xfrm>
              <a:off x="4927680" y="501192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7"/>
            <p:cNvSpPr/>
            <p:nvPr/>
          </p:nvSpPr>
          <p:spPr>
            <a:xfrm>
              <a:off x="5556240" y="484308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0"/>
            <p:cNvSpPr/>
            <p:nvPr/>
          </p:nvSpPr>
          <p:spPr>
            <a:xfrm>
              <a:off x="5629320" y="501192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6405480" y="484308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2"/>
            <p:cNvSpPr/>
            <p:nvPr/>
          </p:nvSpPr>
          <p:spPr>
            <a:xfrm>
              <a:off x="6329520" y="501192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9"/>
            <p:cNvSpPr/>
            <p:nvPr/>
          </p:nvSpPr>
          <p:spPr>
            <a:xfrm>
              <a:off x="7075440" y="484308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54"/>
            <p:cNvSpPr/>
            <p:nvPr/>
          </p:nvSpPr>
          <p:spPr>
            <a:xfrm>
              <a:off x="6999120" y="501192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50"/>
            <p:cNvSpPr/>
            <p:nvPr/>
          </p:nvSpPr>
          <p:spPr>
            <a:xfrm>
              <a:off x="7632720" y="484308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56"/>
            <p:cNvSpPr/>
            <p:nvPr/>
          </p:nvSpPr>
          <p:spPr>
            <a:xfrm>
              <a:off x="7701120" y="501192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467560" y="484308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58"/>
            <p:cNvSpPr/>
            <p:nvPr/>
          </p:nvSpPr>
          <p:spPr>
            <a:xfrm>
              <a:off x="8391600" y="501192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2"/>
            <p:cNvSpPr/>
            <p:nvPr/>
          </p:nvSpPr>
          <p:spPr>
            <a:xfrm>
              <a:off x="157320" y="5779800"/>
              <a:ext cx="13334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1" lang="sl-SI" sz="16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 kana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60"/>
            <p:cNvSpPr/>
            <p:nvPr/>
          </p:nvSpPr>
          <p:spPr>
            <a:xfrm>
              <a:off x="157320" y="5779800"/>
              <a:ext cx="1366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3"/>
            <p:cNvSpPr/>
            <p:nvPr/>
          </p:nvSpPr>
          <p:spPr>
            <a:xfrm>
              <a:off x="1565280" y="5610600"/>
              <a:ext cx="720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62"/>
            <p:cNvSpPr/>
            <p:nvPr/>
          </p:nvSpPr>
          <p:spPr>
            <a:xfrm>
              <a:off x="152388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4"/>
            <p:cNvSpPr/>
            <p:nvPr/>
          </p:nvSpPr>
          <p:spPr>
            <a:xfrm>
              <a:off x="2284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64"/>
            <p:cNvSpPr/>
            <p:nvPr/>
          </p:nvSpPr>
          <p:spPr>
            <a:xfrm>
              <a:off x="220824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5"/>
            <p:cNvSpPr/>
            <p:nvPr/>
          </p:nvSpPr>
          <p:spPr>
            <a:xfrm>
              <a:off x="2955960" y="5610600"/>
              <a:ext cx="5317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66"/>
            <p:cNvSpPr/>
            <p:nvPr/>
          </p:nvSpPr>
          <p:spPr>
            <a:xfrm>
              <a:off x="2879640" y="5779800"/>
              <a:ext cx="6843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6"/>
            <p:cNvSpPr/>
            <p:nvPr/>
          </p:nvSpPr>
          <p:spPr>
            <a:xfrm>
              <a:off x="3639960" y="5610600"/>
              <a:ext cx="52884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68"/>
            <p:cNvSpPr/>
            <p:nvPr/>
          </p:nvSpPr>
          <p:spPr>
            <a:xfrm>
              <a:off x="3564000" y="5779800"/>
              <a:ext cx="68112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7"/>
            <p:cNvSpPr/>
            <p:nvPr/>
          </p:nvSpPr>
          <p:spPr>
            <a:xfrm>
              <a:off x="4143240" y="5610600"/>
              <a:ext cx="8859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0"/>
            <p:cNvSpPr/>
            <p:nvPr/>
          </p:nvSpPr>
          <p:spPr>
            <a:xfrm>
              <a:off x="4245120" y="5779800"/>
              <a:ext cx="68256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8"/>
            <p:cNvSpPr/>
            <p:nvPr/>
          </p:nvSpPr>
          <p:spPr>
            <a:xfrm>
              <a:off x="4842000" y="5610600"/>
              <a:ext cx="87300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++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72"/>
            <p:cNvSpPr/>
            <p:nvPr/>
          </p:nvSpPr>
          <p:spPr>
            <a:xfrm>
              <a:off x="4927680" y="5779800"/>
              <a:ext cx="70164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9"/>
            <p:cNvSpPr/>
            <p:nvPr/>
          </p:nvSpPr>
          <p:spPr>
            <a:xfrm>
              <a:off x="5556240" y="5610600"/>
              <a:ext cx="8445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4"/>
            <p:cNvSpPr/>
            <p:nvPr/>
          </p:nvSpPr>
          <p:spPr>
            <a:xfrm>
              <a:off x="5629320" y="5779800"/>
              <a:ext cx="7002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0"/>
            <p:cNvSpPr/>
            <p:nvPr/>
          </p:nvSpPr>
          <p:spPr>
            <a:xfrm>
              <a:off x="6405480" y="5610600"/>
              <a:ext cx="5176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6"/>
            <p:cNvSpPr/>
            <p:nvPr/>
          </p:nvSpPr>
          <p:spPr>
            <a:xfrm>
              <a:off x="6329520" y="5779800"/>
              <a:ext cx="6696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1"/>
            <p:cNvSpPr/>
            <p:nvPr/>
          </p:nvSpPr>
          <p:spPr>
            <a:xfrm>
              <a:off x="7075440" y="5610600"/>
              <a:ext cx="54936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78"/>
            <p:cNvSpPr/>
            <p:nvPr/>
          </p:nvSpPr>
          <p:spPr>
            <a:xfrm>
              <a:off x="6999120" y="5779800"/>
              <a:ext cx="7020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2"/>
            <p:cNvSpPr/>
            <p:nvPr/>
          </p:nvSpPr>
          <p:spPr>
            <a:xfrm>
              <a:off x="7632720" y="5610600"/>
              <a:ext cx="82548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80"/>
            <p:cNvSpPr/>
            <p:nvPr/>
          </p:nvSpPr>
          <p:spPr>
            <a:xfrm>
              <a:off x="7701120" y="5779800"/>
              <a:ext cx="69048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3"/>
            <p:cNvSpPr/>
            <p:nvPr/>
          </p:nvSpPr>
          <p:spPr>
            <a:xfrm>
              <a:off x="8467560" y="5610600"/>
              <a:ext cx="5191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2"/>
            <p:cNvSpPr/>
            <p:nvPr/>
          </p:nvSpPr>
          <p:spPr>
            <a:xfrm>
              <a:off x="8391600" y="5779800"/>
              <a:ext cx="671400" cy="767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5"/>
            <p:cNvSpPr/>
            <p:nvPr/>
          </p:nvSpPr>
          <p:spPr>
            <a:xfrm>
              <a:off x="152280" y="1972440"/>
              <a:ext cx="8915400" cy="457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СПЕКТА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ЕФИКАСНОСТ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  <a:ea typeface="Arial"/>
              </a:rPr>
              <a:t>АЕ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0600" y="1604880"/>
            <a:ext cx="1525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индро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309600" y="1604880"/>
            <a:ext cx="16873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81080" y="1604880"/>
            <a:ext cx="1731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напади осим абсан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1996920" y="1604880"/>
            <a:ext cx="166536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65520" y="1604880"/>
            <a:ext cx="2273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рцијални и тоничко-клонички нап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5"/>
          <p:cNvSpPr/>
          <p:nvPr/>
        </p:nvSpPr>
        <p:spPr>
          <a:xfrm>
            <a:off x="3662280" y="1604880"/>
            <a:ext cx="204012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3400" y="1604880"/>
            <a:ext cx="1369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амо абса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7"/>
          <p:cNvSpPr/>
          <p:nvPr/>
        </p:nvSpPr>
        <p:spPr>
          <a:xfrm>
            <a:off x="5702400" y="1604880"/>
            <a:ext cx="1531800" cy="8222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90600" y="2610000"/>
            <a:ext cx="15256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309600" y="24271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2077920" y="2610000"/>
            <a:ext cx="15019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1996920" y="24271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743280" y="2610000"/>
            <a:ext cx="1876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CBZ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3"/>
          <p:cNvSpPr/>
          <p:nvPr/>
        </p:nvSpPr>
        <p:spPr>
          <a:xfrm>
            <a:off x="3662280" y="24271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783400" y="2610000"/>
            <a:ext cx="1369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E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5"/>
          <p:cNvSpPr/>
          <p:nvPr/>
        </p:nvSpPr>
        <p:spPr>
          <a:xfrm>
            <a:off x="5702400" y="24271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90600" y="327960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BD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7"/>
          <p:cNvSpPr/>
          <p:nvPr/>
        </p:nvSpPr>
        <p:spPr>
          <a:xfrm>
            <a:off x="309600" y="309708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2077920" y="32796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9"/>
          <p:cNvSpPr/>
          <p:nvPr/>
        </p:nvSpPr>
        <p:spPr>
          <a:xfrm>
            <a:off x="1996920" y="309708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743280" y="327960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HT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1"/>
          <p:cNvSpPr/>
          <p:nvPr/>
        </p:nvSpPr>
        <p:spPr>
          <a:xfrm>
            <a:off x="3662280" y="309708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5783400" y="309708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5702400" y="309708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390600" y="39495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LTG^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309600" y="376704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6"/>
          <p:cNvSpPr/>
          <p:nvPr/>
        </p:nvSpPr>
        <p:spPr>
          <a:xfrm>
            <a:off x="2077920" y="376704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7"/>
          <p:cNvSpPr/>
          <p:nvPr/>
        </p:nvSpPr>
        <p:spPr>
          <a:xfrm>
            <a:off x="1996920" y="376704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743280" y="394956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OXC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9"/>
          <p:cNvSpPr/>
          <p:nvPr/>
        </p:nvSpPr>
        <p:spPr>
          <a:xfrm>
            <a:off x="3662280" y="376704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5783400" y="376704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1"/>
          <p:cNvSpPr/>
          <p:nvPr/>
        </p:nvSpPr>
        <p:spPr>
          <a:xfrm>
            <a:off x="5702400" y="376704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9"/>
          <p:cNvSpPr/>
          <p:nvPr/>
        </p:nvSpPr>
        <p:spPr>
          <a:xfrm>
            <a:off x="390600" y="46195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PM 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3"/>
          <p:cNvSpPr/>
          <p:nvPr/>
        </p:nvSpPr>
        <p:spPr>
          <a:xfrm>
            <a:off x="309600" y="443700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077920" y="443700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5"/>
          <p:cNvSpPr/>
          <p:nvPr/>
        </p:nvSpPr>
        <p:spPr>
          <a:xfrm>
            <a:off x="1996920" y="443700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1"/>
          <p:cNvSpPr/>
          <p:nvPr/>
        </p:nvSpPr>
        <p:spPr>
          <a:xfrm>
            <a:off x="3743280" y="461952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VGB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3662280" y="443700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83400" y="443700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5702400" y="443700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390600" y="510696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309600" y="510696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4"/>
          <p:cNvSpPr/>
          <p:nvPr/>
        </p:nvSpPr>
        <p:spPr>
          <a:xfrm>
            <a:off x="2077920" y="510696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996920" y="510696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5"/>
          <p:cNvSpPr/>
          <p:nvPr/>
        </p:nvSpPr>
        <p:spPr>
          <a:xfrm>
            <a:off x="3743280" y="528948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GBP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5"/>
          <p:cNvSpPr/>
          <p:nvPr/>
        </p:nvSpPr>
        <p:spPr>
          <a:xfrm>
            <a:off x="3662280" y="510696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5783400" y="510696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5702400" y="510696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390600" y="5776920"/>
            <a:ext cx="1525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9"/>
          <p:cNvSpPr/>
          <p:nvPr/>
        </p:nvSpPr>
        <p:spPr>
          <a:xfrm>
            <a:off x="309600" y="5776920"/>
            <a:ext cx="16873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2077920" y="5776920"/>
            <a:ext cx="15019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1"/>
          <p:cNvSpPr/>
          <p:nvPr/>
        </p:nvSpPr>
        <p:spPr>
          <a:xfrm>
            <a:off x="1996920" y="5776920"/>
            <a:ext cx="166536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3743280" y="5959440"/>
            <a:ext cx="1876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TGB^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3662280" y="5776920"/>
            <a:ext cx="204012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5783400" y="5776920"/>
            <a:ext cx="1369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5702400" y="5776920"/>
            <a:ext cx="1531800" cy="6699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8"/>
          <p:cNvSpPr/>
          <p:nvPr/>
        </p:nvSpPr>
        <p:spPr>
          <a:xfrm>
            <a:off x="304920" y="1600200"/>
            <a:ext cx="6933960" cy="485136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0"/>
          <p:cNvSpPr/>
          <p:nvPr/>
        </p:nvSpPr>
        <p:spPr>
          <a:xfrm>
            <a:off x="7315200" y="2743200"/>
            <a:ext cx="175248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гу погоршати миоклоничне нападе и абсан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^^LTG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погоршати тешку миоклоничну епилеп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#VGB je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икасан и против инфатилних спаз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Ширина спектра деј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642960" y="1643040"/>
          <a:ext cx="7500960" cy="471816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Ширина спектра појединих антиепилептичких леков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ов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алпроати, бензодиазепини (клобазам, нитразепам, клоназепам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миоклоничк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амотриги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и типови напада изузев апсансн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енобарбитон, примидон, топирамат, леветирацетам, зонисамид, фелбамат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бамазепин, окскарбазепин, габапентин, фенитоин, тиагабин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цијални и секундарно генерализовани напади,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еst-ov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индр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габатрин*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сансни нап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то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метсук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мид, ацетазоламид, султи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gridSpan="2">
                  <a:txBody>
                    <a:bodyPr lIns="63720" rIns="63720" tIns="34560" bIns="34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-због нежељених дејстава користе се само под посебним услов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164304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T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ади реагују на све лекове осим на етосукцими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санси и миоклонизми реагују само на неке лекове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е лек првог избо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и типови реагују сходно другим карактеристик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игабатрин код кортикалних дисплаз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Westov s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BZ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HT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тоничких нап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лпроат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 фотосензитивности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кална или генерализована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збор лека на основу типа 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ВАЛПРОАТ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р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, 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OHC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V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 T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п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ит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де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LTG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124920"/>
            <a:ext cx="86868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уп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BZ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RIM, VG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GBP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GB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пстинен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VPA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PH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BZ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ESM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T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214960" y="333360"/>
            <a:ext cx="32227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Afflictis lentae, celeres gaudentibus hora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ssante causa cessat effect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шност</a:t>
            </a: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зир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Е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дат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оксич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раћ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еру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нтерак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ф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ПОГОРШ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АНТИЕПИЛЕПТИЦ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6"/>
          <p:cNvGrpSpPr/>
          <p:nvPr/>
        </p:nvGrpSpPr>
        <p:grpSpPr>
          <a:xfrm>
            <a:off x="235080" y="1905120"/>
            <a:ext cx="8759160" cy="4670280"/>
            <a:chOff x="235080" y="1905120"/>
            <a:chExt cx="8759160" cy="4670280"/>
          </a:xfrm>
        </p:grpSpPr>
        <p:sp>
          <p:nvSpPr>
            <p:cNvPr id="321" name="Rectangle 3"/>
            <p:cNvSpPr/>
            <p:nvPr/>
          </p:nvSpPr>
          <p:spPr>
            <a:xfrm>
              <a:off x="359640" y="1909800"/>
              <a:ext cx="103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A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"/>
            <p:cNvSpPr/>
            <p:nvPr/>
          </p:nvSpPr>
          <p:spPr>
            <a:xfrm>
              <a:off x="243000" y="1909800"/>
              <a:ext cx="12722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"/>
            <p:cNvSpPr/>
            <p:nvPr/>
          </p:nvSpPr>
          <p:spPr>
            <a:xfrm>
              <a:off x="1632240" y="190980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Тип епилепсије или на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5"/>
            <p:cNvSpPr/>
            <p:nvPr/>
          </p:nvSpPr>
          <p:spPr>
            <a:xfrm>
              <a:off x="1515600" y="1909800"/>
              <a:ext cx="372852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5361120" y="190980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фека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7"/>
            <p:cNvSpPr/>
            <p:nvPr/>
          </p:nvSpPr>
          <p:spPr>
            <a:xfrm>
              <a:off x="5244120" y="1909800"/>
              <a:ext cx="3741840" cy="5508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359640" y="2460600"/>
              <a:ext cx="103896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CB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9"/>
            <p:cNvSpPr/>
            <p:nvPr/>
          </p:nvSpPr>
          <p:spPr>
            <a:xfrm>
              <a:off x="243000" y="2460600"/>
              <a:ext cx="1272240" cy="1257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1632240" y="246060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енигна парцијал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, ЈМ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1"/>
            <p:cNvSpPr/>
            <p:nvPr/>
          </p:nvSpPr>
          <p:spPr>
            <a:xfrm>
              <a:off x="1515600" y="246060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8"/>
            <p:cNvSpPr/>
            <p:nvPr/>
          </p:nvSpPr>
          <p:spPr>
            <a:xfrm>
              <a:off x="5361120" y="246060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3"/>
            <p:cNvSpPr/>
            <p:nvPr/>
          </p:nvSpPr>
          <p:spPr>
            <a:xfrm>
              <a:off x="5244120" y="246060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>
              <a:off x="1632240" y="3259080"/>
              <a:ext cx="349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E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35"/>
            <p:cNvSpPr/>
            <p:nvPr/>
          </p:nvSpPr>
          <p:spPr>
            <a:xfrm>
              <a:off x="1515600" y="3166920"/>
              <a:ext cx="372852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"/>
            <p:cNvSpPr/>
            <p:nvPr/>
          </p:nvSpPr>
          <p:spPr>
            <a:xfrm>
              <a:off x="5361120" y="3259080"/>
              <a:ext cx="3508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Опште погоршањ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7"/>
            <p:cNvSpPr/>
            <p:nvPr/>
          </p:nvSpPr>
          <p:spPr>
            <a:xfrm>
              <a:off x="5244120" y="3166920"/>
              <a:ext cx="3741840" cy="551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59640" y="371808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H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9"/>
            <p:cNvSpPr/>
            <p:nvPr/>
          </p:nvSpPr>
          <p:spPr>
            <a:xfrm>
              <a:off x="243000" y="3718080"/>
              <a:ext cx="12722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1632240" y="371808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JA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1"/>
            <p:cNvSpPr/>
            <p:nvPr/>
          </p:nvSpPr>
          <p:spPr>
            <a:xfrm>
              <a:off x="1515600" y="3718080"/>
              <a:ext cx="372852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5361120" y="371808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број напада погоршањ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3"/>
            <p:cNvSpPr/>
            <p:nvPr/>
          </p:nvSpPr>
          <p:spPr>
            <a:xfrm>
              <a:off x="5244120" y="3718080"/>
              <a:ext cx="3741840" cy="707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"/>
            <p:cNvSpPr/>
            <p:nvPr/>
          </p:nvSpPr>
          <p:spPr>
            <a:xfrm>
              <a:off x="359640" y="4473720"/>
              <a:ext cx="10389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5"/>
            <p:cNvSpPr/>
            <p:nvPr/>
          </p:nvSpPr>
          <p:spPr>
            <a:xfrm>
              <a:off x="243000" y="442584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1632240" y="4473720"/>
              <a:ext cx="34948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и разни типови напада 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47"/>
            <p:cNvSpPr/>
            <p:nvPr/>
          </p:nvSpPr>
          <p:spPr>
            <a:xfrm>
              <a:off x="1515600" y="442584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361120" y="4473720"/>
              <a:ext cx="35082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ри великим доза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49"/>
            <p:cNvSpPr/>
            <p:nvPr/>
          </p:nvSpPr>
          <p:spPr>
            <a:xfrm>
              <a:off x="5244120" y="442584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7"/>
            <p:cNvSpPr/>
            <p:nvPr/>
          </p:nvSpPr>
          <p:spPr>
            <a:xfrm>
              <a:off x="359640" y="5160960"/>
              <a:ext cx="103896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VG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GB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51"/>
            <p:cNvSpPr/>
            <p:nvPr/>
          </p:nvSpPr>
          <p:spPr>
            <a:xfrm>
              <a:off x="243000" y="5133960"/>
              <a:ext cx="12722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1632240" y="5160960"/>
              <a:ext cx="34948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псанс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Миоклониј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3"/>
            <p:cNvSpPr/>
            <p:nvPr/>
          </p:nvSpPr>
          <p:spPr>
            <a:xfrm>
              <a:off x="1515600" y="5133960"/>
              <a:ext cx="372852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5361120" y="5160960"/>
              <a:ext cx="350820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ве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ћ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ан број напад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јачање миоклониј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5"/>
            <p:cNvSpPr/>
            <p:nvPr/>
          </p:nvSpPr>
          <p:spPr>
            <a:xfrm>
              <a:off x="5244120" y="5133960"/>
              <a:ext cx="3741840" cy="706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0"/>
            <p:cNvSpPr/>
            <p:nvPr/>
          </p:nvSpPr>
          <p:spPr>
            <a:xfrm>
              <a:off x="359640" y="5867280"/>
              <a:ext cx="10389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10358136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LT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1035813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57"/>
            <p:cNvSpPr/>
            <p:nvPr/>
          </p:nvSpPr>
          <p:spPr>
            <a:xfrm>
              <a:off x="243000" y="5840280"/>
              <a:ext cx="12722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1632240" y="5867280"/>
              <a:ext cx="34948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Тешка миоклонус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епилепсија одојча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59"/>
            <p:cNvSpPr/>
            <p:nvPr/>
          </p:nvSpPr>
          <p:spPr>
            <a:xfrm>
              <a:off x="1515600" y="5840280"/>
              <a:ext cx="372852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5361120" y="5867280"/>
              <a:ext cx="35082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Погоршање миоклону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1"/>
            <p:cNvSpPr/>
            <p:nvPr/>
          </p:nvSpPr>
          <p:spPr>
            <a:xfrm>
              <a:off x="5244120" y="5840280"/>
              <a:ext cx="3741840" cy="708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4"/>
            <p:cNvSpPr/>
            <p:nvPr/>
          </p:nvSpPr>
          <p:spPr>
            <a:xfrm>
              <a:off x="235080" y="1905120"/>
              <a:ext cx="875916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ЧЕЊЕ ЕПИЛЕПСИЈЕ КАД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ИНДРОМСКА КЛАСИФИКАЦИЈА НЕЈАС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14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дности лечења са АЕ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јвећа вероватноћа успеха ка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ип напада или синдрома није сасвим јаса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оку еволу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ндрома мог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могу јавити нови типови напада или синдром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ироког спектра спречав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акв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 широког спектр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мају најмању могућност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азивања или погоршања нап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214200" y="428760"/>
            <a:ext cx="8548920" cy="9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3581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АЛГОРИТАМ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ПРИЛАЗ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МОНОТЕРАПИЈ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2000" spc="-1" strike="noStrike">
                <a:solidFill>
                  <a:srgbClr val="000000"/>
                </a:solidFill>
                <a:latin typeface="Arial"/>
              </a:rPr>
              <a:t>ЕПИЛЕ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Праћењ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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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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ВАЛПРО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псанс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фокалн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С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ип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на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збор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ЕСМ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                               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ЦБЗ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АЕЛ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ТП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ЛТ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857320" y="428760"/>
            <a:ext cx="31921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Мигрена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6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ушкарац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1%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и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имен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урен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ље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ндик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а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пе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ников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п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плегич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ла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онгира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ен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z-Cyrl-A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арк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1760" y="845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филактич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мигр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валпроа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866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ј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честал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50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лич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ост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ал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редњ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15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а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успе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оча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месе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нев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9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Шт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удружуј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мигрен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000" spc="-1" strike="noStrike">
                <a:solidFill>
                  <a:srgbClr val="000000"/>
                </a:solidFill>
                <a:latin typeface="Calibri"/>
              </a:rPr>
              <a:t>епилепсију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866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јав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лучај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оморбидитет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зр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следич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удружено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једног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ламотриг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, 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топирама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микробни лекови, антивир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та лактамски антиби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фалоспор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нол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ниаз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анциклов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естетици, аналге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пер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мад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кални анест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генси класе И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модулацијс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акроли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феро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и друге супстанце који могу узроковати напад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диографска контраст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офил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ихотроп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т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лоупотреба хипнотичких средст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диазепи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ркот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мфе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ка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нцикли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илфенид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умазени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214960" y="333360"/>
            <a:ext cx="3222720" cy="27385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Време споро тече болесницима, а расположенима брзо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Ако престане узрок, престаје и послед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64296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NaSSA)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alfa – 2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боксетин -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N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нлафакс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улоксет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лнаципра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N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Бупропио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- ND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ил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P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ртазапи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NaS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ф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азодон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- S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гомелатин 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agonist malatonin 1, 2 receptora i agonist 5HT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анептин –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умулатор преузиманја серотонин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+ Т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лош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т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н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реме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реотип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ш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мо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тор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нзитив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узроков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жњењ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тикал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у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пилепс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ј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авља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20 - 3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одрасл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ш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оп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цид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во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100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,000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: 0.5 - 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fe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ревален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2-5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Прогноз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65%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о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ијагностификова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ав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ацијен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п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нтролис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терап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слаб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4400" spc="-1" strike="noStrike">
                <a:solidFill>
                  <a:srgbClr val="000000"/>
                </a:solidFill>
                <a:latin typeface="Calibri"/>
              </a:rPr>
              <a:t>епилепс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диопат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риптог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6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Васкула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абнормал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рау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Дегенератив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.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LAE*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епилептичких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047760"/>
            <a:ext cx="6400800" cy="17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Генерализ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класификов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32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national Leaque Against Epilep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Парцијални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az-Cyrl-AZ" sz="4400" spc="-1" strike="noStrike">
                <a:solidFill>
                  <a:srgbClr val="000000"/>
                </a:solidFill>
                <a:latin typeface="Calibri"/>
              </a:rPr>
              <a:t>напа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Једноста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мот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оматосензор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аутоном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имптоматолог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ињ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једностав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одм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2400" spc="-1" strike="noStrike">
                <a:solidFill>
                  <a:srgbClr val="000000"/>
                </a:solidFill>
                <a:latin typeface="Calibri"/>
              </a:rPr>
              <a:t>поч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Напад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кој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постај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секундарно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z-Cyrl-AZ" sz="2400" spc="-1" strike="noStrike" u="sng">
                <a:solidFill>
                  <a:srgbClr val="000000"/>
                </a:solidFill>
                <a:uFillTx/>
                <a:latin typeface="Calibri"/>
              </a:rPr>
              <a:t>генер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7238880" y="228600"/>
            <a:ext cx="129564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20-08-12T08:28:5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